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A9BD-9C66-49B7-AD17-3C9959EBCF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6B03-CF36-4517-8F7A-CC4F4C34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E59-5357-4726-9C53-085CD94B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338-88B1-47BE-BFFE-ABAD9E99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ED8-FA9A-448E-B5D2-3198D693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827-15C8-4174-BF18-725B624B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983-3F62-4B4D-8F7D-E169A01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F4C-1D88-4842-B239-25C1113B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CEFF-9757-428E-84F1-ADD4B83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BE3-1D10-482F-8E4B-03BD9974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412-B251-4DD6-82E9-315BD2B2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9D2-311A-4873-A36A-BC101B1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E53-FBA8-42B6-AC1A-899D9CD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0E8-C712-4222-B53E-4A47BB9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55D5-262D-4CD8-94D7-F939FC89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ware: Its latest development using Moose and Bio::Chado::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dhartha B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ictybas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34"/>
          <p:cNvSpPr/>
          <p:nvPr/>
        </p:nvSpPr>
        <p:spPr>
          <a:xfrm>
            <a:off x="9144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(Literature c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0592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34"/>
          <p:cNvSpPr/>
          <p:nvPr/>
        </p:nvSpPr>
        <p:spPr>
          <a:xfrm>
            <a:off x="91440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447920"/>
            <a:ext cx="73152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(from pub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ontology(ob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GAF 1.0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Experimental buil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Publication::Pubm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bcs_resultset ‘Pub::Pub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h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$_ for qw/title pages issue volume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_id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rimar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year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yea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med_id’     =&gt; (column =&gt; ‘uniquenam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676520"/>
            <a:ext cx="754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Chado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cs_resultset ‘Stock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dbxref   ‘id’ =&gt; (db =&gt; ‘Stock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belongs_to ‘organism’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Chado::Organism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4"/>
          <p:cNvSpPr/>
          <p:nvPr/>
        </p:nvSpPr>
        <p:spPr>
          <a:xfrm>
            <a:off x="91440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Proje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83059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ithub.com/cybersiddhu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mod.org/wiki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mod-ware-users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34"/>
          <p:cNvSpPr/>
          <p:nvPr/>
        </p:nvSpPr>
        <p:spPr>
          <a:xfrm>
            <a:off x="91440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Rela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80880" y="68580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6765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::Caching (in C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search.cpan.org/dist/Mojolicious-Plugin-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ML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::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Tag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ithub.com/cybersiddhu/Mojolicious-Plugin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x Chis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ren Kib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lia Bushma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ra F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e Ga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 Do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54321"/>
                </a:solidFill>
                <a:latin typeface="Arial"/>
                <a:ea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5335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692360"/>
            <a:ext cx="39621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S(Bio::Chado::Schema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O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M for chado/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es chado specific storag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Gene/Protein, Alignment, Publication, Ontology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/Fin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rsal API between 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ility with other API(e.g bio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MVC web applications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/Mojo/Dancer et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</a:t>
            </a: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hado</a:t>
            </a: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ed with Class::DB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release of Class::DBI module (4 year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d with dictyBase data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on Bio::Chado::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se fo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Chado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4321"/>
                </a:solidFill>
                <a:latin typeface="Arial"/>
                <a:ea typeface="Arial"/>
              </a:rPr>
              <a:t>Modware Data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62812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00ff"/>
                </a:solidFill>
                <a:latin typeface="Arial"/>
                <a:ea typeface="Arial"/>
              </a:rPr>
              <a:t>use aliased ‘Modware::DataSource::Chado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Pg:database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Oracle:sid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ttr             =&gt; { AutoCommit =&gt; 1, LongTruncOk =&gt; 1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dsn =&gt; ‘dbi:SQLite:database=mydb.sqlite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t/Set through Bio::Chado::Schema(B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Chado-&gt;handl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handler(Bio::Chado::Schema-&gt;connect($dsn,$user,$pass,$att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34"/>
          <p:cNvSpPr/>
          <p:nvPr/>
        </p:nvSpPr>
        <p:spPr>
          <a:xfrm>
            <a:off x="914400" y="76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RU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8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Pubm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Autho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pub = Modware::Publication::Pubmed-&gt;new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year     =&gt;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tus  =&gt; ‘publishe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v        =&gt;  ‘pub_typ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pubmed_id(33222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(‘JBC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bstract(‘This is a cool abstarc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Publication::Author-&gt;new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L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Johnson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=&gt; ‘M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731520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y $new_pub = $pub-&gt;sa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   first_name =&gt; ‘Je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Seinfel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 =&gt; ‘M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uffix         =&gt; ‘J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medline_id(12782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full_text_url(‘http://journal.org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$new_pub-&gt;sa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dele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$new_pub-&gt;db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34"/>
          <p:cNvSpPr/>
          <p:nvPr/>
        </p:nvSpPr>
        <p:spPr>
          <a:xfrm>
            <a:off x="914400" y="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Finder/Search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5"/>
          <p:cNvSpPr/>
          <p:nvPr/>
        </p:nvSpPr>
        <p:spPr>
          <a:xfrm>
            <a:off x="385920" y="5335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"/>
            <a:ext cx="82296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singl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(2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_by_pubmed_id(322983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multip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pubs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itr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hile(my $pub = $itr-&gt;n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28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authors = $pub-&gt;authors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or my $author(@author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author-&gt;first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count = Modware::Chado::Publication-&gt;count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%op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ond =&gt; { clause =&gt; ‘OR’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 title =&gt; ‘genomics*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34"/>
          <p:cNvSpPr/>
          <p:nvPr/>
        </p:nvSpPr>
        <p:spPr>
          <a:xfrm>
            <a:off x="914400" y="763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 (List of pub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33:32Z</dcterms:created>
  <dc:creator>Eric Just</dc:creator>
  <dc:description/>
  <dc:language>en-US</dc:language>
  <cp:lastModifiedBy>Siddhartha Basu</cp:lastModifiedBy>
  <dcterms:modified xsi:type="dcterms:W3CDTF">2011-03-06T17:30:36Z</dcterms:modified>
  <cp:revision>312</cp:revision>
  <dc:subject/>
  <dc:title>Slide 1</dc:title>
</cp:coreProperties>
</file>